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9F77-92EB-48D5-AC02-70A04C64C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315C-FB5F-461F-9270-F4E3AA320A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0340-235E-4003-8270-967B75B217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BA13-0206-4DF8-B95B-89276B3B8B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D92E-9F6B-4BF1-A283-F7CC2B8901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0700-9523-4D0A-834C-0AD7915D2D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8451-E787-404C-B7F9-839E31869B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A43F-2A73-43A0-BB3A-203287DB3A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55C-E637-49B4-976F-4457E408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FAA-2B54-4194-996E-8A69C2C0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2AB-9C83-4B26-8BE4-89EC4F9B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E84-CF72-42BB-8B35-92BF0BB5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B8BD-16E4-41B9-B184-9185DCC8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220-6532-4B9A-91F5-DFE622A8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51D-B3DB-4896-86E2-6FD05F4C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E70C-6EF4-48FA-B6F0-DEF6DEDF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10A-4BA4-4A18-8C25-102678F8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A4D-19E0-48CF-AE44-CACC7D02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F36-FB30-4325-A240-49B74B09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1B35-6A2D-4DF5-9D99-D58BD3A3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8537-20C7-46A8-A9CA-EA30001DC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2C9F-7CD2-4B62-A80A-15B0D1122A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Arial"/>
              </a:rPr>
              <a:t>МАТЕРИЈАЛИ У ОРАЛНОЈ ИМПЛАНТОЛОГИЈИ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800"/>
            <a:ext cx="86425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5 -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Тематске јединице: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Захтеви за имплантатне материјале, подела материјала за имплантат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атеријали за супраструктуре   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Arial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869400" y="6180120"/>
            <a:ext cx="71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20</a:t>
            </a:r>
            <a:r>
              <a:rPr b="0" lang="sr-Latn-RS" sz="10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дела материјала за имплантат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B661-C074-4030-A956-40311F5DE1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55480" y="1828800"/>
            <a:ext cx="8158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Аутологни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– из истог организма ( трансплантација импактираних зуба, реимплантација зуба, коштана трансплантациј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Хомологни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– из другог организма исте врсте ( трансплантација из банке коштаних имплантат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Хетерологни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– из организма друге врсте ( трансплантација девитализоване и депротеинизоване кост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Алопластични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– вештачки материјали ( имплантација готових елемената од вештачких материјал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9"/>
          <p:cNvCxnSpPr/>
          <p:nvPr/>
        </p:nvCxnSpPr>
        <p:spPr>
          <a:xfrm flipH="1">
            <a:off x="2452320" y="5456160"/>
            <a:ext cx="52920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Straight Arrow Connector 11"/>
          <p:cNvCxnSpPr/>
          <p:nvPr/>
        </p:nvCxnSpPr>
        <p:spPr>
          <a:xfrm>
            <a:off x="3549600" y="5415120"/>
            <a:ext cx="50544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TextBox 14"/>
          <p:cNvSpPr/>
          <p:nvPr/>
        </p:nvSpPr>
        <p:spPr>
          <a:xfrm>
            <a:off x="1805040" y="6040440"/>
            <a:ext cx="33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Метални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Неметал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дела материјала за имплантат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Аутологни трансплан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Content Placeholder 11" descr=""/>
          <p:cNvPicPr/>
          <p:nvPr/>
        </p:nvPicPr>
        <p:blipFill>
          <a:blip r:embed="rId1"/>
          <a:stretch/>
        </p:blipFill>
        <p:spPr>
          <a:xfrm>
            <a:off x="457200" y="2255760"/>
            <a:ext cx="4040280" cy="38941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2339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етерологни трансплан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Content Placeholder 13" descr=""/>
          <p:cNvPicPr/>
          <p:nvPr/>
        </p:nvPicPr>
        <p:blipFill>
          <a:blip r:embed="rId2"/>
          <a:srcRect l="0" t="0" r="38810" b="55653"/>
          <a:stretch/>
        </p:blipFill>
        <p:spPr>
          <a:xfrm>
            <a:off x="4645080" y="2174760"/>
            <a:ext cx="4048200" cy="1650960"/>
          </a:xfrm>
          <a:prstGeom prst="rect">
            <a:avLst/>
          </a:prstGeom>
          <a:ln w="0">
            <a:noFill/>
          </a:ln>
        </p:spPr>
      </p:pic>
      <p:sp>
        <p:nvSpPr>
          <p:cNvPr id="12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7D5B-03BD-4072-BE13-E78AFC22AA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"/>
          <p:cNvPicPr/>
          <p:nvPr/>
        </p:nvPicPr>
        <p:blipFill>
          <a:blip r:embed="rId3"/>
          <a:stretch/>
        </p:blipFill>
        <p:spPr>
          <a:xfrm>
            <a:off x="4665600" y="3873600"/>
            <a:ext cx="4048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FC53-AABB-434F-AF8A-EBF0388A0B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5840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дела материјала за имплантат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469800" y="1720800"/>
            <a:ext cx="8120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лни имплант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бре механичке и биолошке карактеристике  неких метала и лег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анас се скоро сви имплантати израђују од </a:t>
            </a:r>
            <a:r>
              <a:rPr b="0" i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тита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0" i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легура тит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http://images-of-elements.com/titanium-crystal-2.jpg"/>
          <p:cNvPicPr/>
          <p:nvPr/>
        </p:nvPicPr>
        <p:blipFill>
          <a:blip r:embed="rId1"/>
          <a:srcRect l="2234" t="15292" r="2985" b="15008"/>
          <a:stretch/>
        </p:blipFill>
        <p:spPr>
          <a:xfrm>
            <a:off x="2779560" y="3867120"/>
            <a:ext cx="336240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BF7E-3552-4B41-8269-D5A0887573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дела материјала за имплантаз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57200" y="1708200"/>
            <a:ext cx="816912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рђајућ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 – Ni – Mo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е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устенитни ( најотпорнији на корозију ) че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случају настанка напрслине јавља се одбацивање имплан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бог добрих механичких карактеристика  користи се данас  углавном за израду инструмената и сврд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https://encrypted-tbn3.gstatic.com/images?q=tbn:ANd9GcR6NsyPIvkSEb8W5wQuCtklmvAgTDhOqQRWqpm3DpuQl1ImzTPK"/>
          <p:cNvPicPr/>
          <p:nvPr/>
        </p:nvPicPr>
        <p:blipFill>
          <a:blip r:embed="rId1"/>
          <a:stretch/>
        </p:blipFill>
        <p:spPr>
          <a:xfrm>
            <a:off x="4718160" y="4011480"/>
            <a:ext cx="3481200" cy="223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6600" y="2639880"/>
            <a:ext cx="4718160" cy="48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дела материјала за имплантат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A5B3-347F-4B73-A345-FFA6DF1EB5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469800" y="1731960"/>
            <a:ext cx="821700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 – Ni – Cr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лег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ријал избора дуги низ година у имплантолог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ома отпорна на корозију, одличне механичке карактеристике и добра лив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а развојем технологије титана губи на значају, тако да данас има само историјску вред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1C38-8456-4130-B59C-9964B42713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дела материјала за имплантат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384120" y="1695600"/>
            <a:ext cx="8182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480960" y="1757520"/>
            <a:ext cx="813456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ријал избора за имплантате, завртње и капице за зарас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та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P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–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мерцијално чист титаниј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је преко 99% чист, док преосталих  0,1% чине кисеоник и у траговима гвожђе, азот, угљеник и водо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легирајућих елемената разликују се 4 степена чистоће титан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јвећи број имплантата израђен је од титана чистоће 2 и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дела материјала за имплантат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669A-7BAE-429A-9529-5EBDC95C7F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480960" y="1720800"/>
            <a:ext cx="8193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ТИТАНИЈУ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едује велику чврстоћу ( затезну чврстоћу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а малу густину ( повољно за укупну масу имплантат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ољан модул еласт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ош је проводник топл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ако се облику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енутно оксидише на ваздуху, води и у ткивним течнос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( оштећења на површини регенеришу се за неколко секунди поновном оксидацијом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дела материјала за имплантат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0B6E-3D71-467D-A239-1DF84D5EEC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469800" y="1660680"/>
            <a:ext cx="8288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ло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O2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је отпоран на корозију, биоинертан и поседује важне биохемијске карактеристике значајне за интеграцију импланта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дратација  ( упија воду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дсорбција неорганских јона ( калцијум, фосфор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дсорбција органских макромолекула ( протеини, липопротеини и пептид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а овог слоја са фибринским влакнима и остеоблас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дела материјала за имплантат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4CC2-EB78-4787-8463-71C13442EB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433440" y="1757520"/>
            <a:ext cx="824076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антал и ниобиј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бре механичке особине и велика биокомпатибил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иокомпатибилност потиче од њихових стабилних оксида који те метале чине  хемијски и електрохемијски постоја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акође, велика чврстоћа и модул еластичности најприближнији кортикалној кости, значајне су физичке карактеристике ових мет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дела материјала за имплантат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92DF-933C-4E84-8670-B55A820FC8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493560" y="1444680"/>
            <a:ext cx="8109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етални ( керамички ) имплант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лни оксиди синтеровани на високим температур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, механичке карактеристике и могућности везивања за кост керамичких материјала зависе од тога да ли је њихова структура компактна или порозна, аморфна или кристал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имплантологији користе се два типа керам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ионеактивна ( алумина и сафир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иоактивна  ( хидроксиапатит и биоглас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Захтеви за имплантатне материјал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Date Placeholder 2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6C54-2633-44E9-818D-11CD289126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69800" y="1889280"/>
            <a:ext cx="8193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градња имплантата у хумани скелет треба да обезбеди пуну функционалну интеграцију невиталног имплантата  и виталне  алвеоларн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 успех имплантације битно утичу избор материјала, његове физичке и механичке карактеристике и могућност интеракције са околним меким и коштаним тк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ttps://encrypted-tbn0.gstatic.com/images?q=tbn:ANd9GcRxt37g1GdmQto-0H5D7dSFE99fnKYbviGwglvvE6nkzjOOxFFK6w"/>
          <p:cNvPicPr/>
          <p:nvPr/>
        </p:nvPicPr>
        <p:blipFill>
          <a:blip r:embed="rId1"/>
          <a:stretch/>
        </p:blipFill>
        <p:spPr>
          <a:xfrm>
            <a:off x="3295800" y="4116240"/>
            <a:ext cx="2438280" cy="23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366840" y="4116240"/>
            <a:ext cx="2857320" cy="234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rcRect l="0" t="5416" r="0" b="5786"/>
          <a:stretch/>
        </p:blipFill>
        <p:spPr>
          <a:xfrm>
            <a:off x="5837400" y="4116240"/>
            <a:ext cx="28256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дела материјала за имплантат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36FE-F324-464B-A43C-5CB42918E0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469800" y="1468440"/>
            <a:ext cx="81565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онеактивна кера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умина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уктура ове керамике  ( густа кристална решетка , глатка површина ), даје велику хемијску 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електрохемијск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аност ових материјала у живој сред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односу на метале ипак 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риорна у односу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чке карактерис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 ограничен дијаметар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sanja"/>
          <p:cNvPicPr/>
          <p:nvPr/>
        </p:nvPicPr>
        <p:blipFill>
          <a:blip r:embed="rId1"/>
          <a:srcRect l="77541" t="36352" r="11422" b="30981"/>
          <a:stretch/>
        </p:blipFill>
        <p:spPr>
          <a:xfrm>
            <a:off x="8145360" y="3381480"/>
            <a:ext cx="798480" cy="3058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implant"/>
          <p:cNvPicPr/>
          <p:nvPr/>
        </p:nvPicPr>
        <p:blipFill>
          <a:blip r:embed="rId2"/>
          <a:srcRect l="0" t="0" r="1688" b="2547"/>
          <a:stretch/>
        </p:blipFill>
        <p:spPr>
          <a:xfrm>
            <a:off x="7078680" y="3500280"/>
            <a:ext cx="754200" cy="2913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Frialit_slika1"/>
          <p:cNvPicPr/>
          <p:nvPr/>
        </p:nvPicPr>
        <p:blipFill>
          <a:blip r:embed="rId3"/>
          <a:stretch/>
        </p:blipFill>
        <p:spPr>
          <a:xfrm>
            <a:off x="3946680" y="4275000"/>
            <a:ext cx="297180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дела материјала за имплантат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14E0-11D7-43BB-8222-6B847B9833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444600" y="1371600"/>
            <a:ext cx="82058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оактивна кера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ријали богати калцијумом и фосфатима и по хемијском саставу слични су саставу кости и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јвећи значај као и практичну примену у имплантологији има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дроксиапатитна керамика и трикалцијумфосфатна керам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ви материјали се растварају у телесним течностима ослобађајући јоне калцију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https://encrypted-tbn1.gstatic.com/images?q=tbn:ANd9GcToBq6IsN2tAN-IqU72yYoKhFD4X0krt-YNa24oAqJ5d_eZf-7Lww"/>
          <p:cNvPicPr/>
          <p:nvPr/>
        </p:nvPicPr>
        <p:blipFill>
          <a:blip r:embed="rId1"/>
          <a:stretch/>
        </p:blipFill>
        <p:spPr>
          <a:xfrm>
            <a:off x="528480" y="4919760"/>
            <a:ext cx="3791160" cy="1209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C:\Users\Zoran\Downloads\implantologija\download (2).jpg"/>
          <p:cNvPicPr/>
          <p:nvPr/>
        </p:nvPicPr>
        <p:blipFill>
          <a:blip r:embed="rId2"/>
          <a:stretch/>
        </p:blipFill>
        <p:spPr>
          <a:xfrm>
            <a:off x="7250040" y="3989520"/>
            <a:ext cx="16779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Материјали за супраструктур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11E9-DEA3-4E65-90E0-BEBC996ECF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C:\Users\Zoran\Downloads\implantologija\download.jpg"/>
          <p:cNvPicPr/>
          <p:nvPr/>
        </p:nvPicPr>
        <p:blipFill>
          <a:blip r:embed="rId1"/>
          <a:stretch/>
        </p:blipFill>
        <p:spPr>
          <a:xfrm>
            <a:off x="811080" y="1479600"/>
            <a:ext cx="3360960" cy="284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C:\Users\Zoran\Downloads\implantologija\images (22).jpg"/>
          <p:cNvPicPr/>
          <p:nvPr/>
        </p:nvPicPr>
        <p:blipFill>
          <a:blip r:embed="rId2"/>
          <a:stretch/>
        </p:blipFill>
        <p:spPr>
          <a:xfrm>
            <a:off x="4676760" y="1612800"/>
            <a:ext cx="3051360" cy="2521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C:\Users\Zoran\Downloads\implantologija\download (3).jpg"/>
          <p:cNvPicPr/>
          <p:nvPr/>
        </p:nvPicPr>
        <p:blipFill>
          <a:blip r:embed="rId3"/>
          <a:srcRect l="0" t="18758" r="14" b="0"/>
          <a:stretch/>
        </p:blipFill>
        <p:spPr>
          <a:xfrm>
            <a:off x="4927680" y="4214880"/>
            <a:ext cx="3695760" cy="2104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"/>
          <p:cNvPicPr/>
          <p:nvPr/>
        </p:nvPicPr>
        <p:blipFill>
          <a:blip r:embed="rId4"/>
          <a:stretch/>
        </p:blipFill>
        <p:spPr>
          <a:xfrm>
            <a:off x="709560" y="4646520"/>
            <a:ext cx="40975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BE87-A4FC-41D6-A1AE-8BEDC6E411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69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Материјали за супраструктур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433440" y="1781280"/>
            <a:ext cx="8205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начан успех имплантатне терапије у многоме зависи и од материјала за супраструктуре, као и од фасетних материјала који прекривају имплантатне носач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 материјала за супраструктуре се очеку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а испуне све захтеве физичко-механичких карактеристика и буду усклађени са физичко-механичким карактеристикама материјала за имплант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а фасетни материјал буде еластичниј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 мање тврд од конвеционал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асетних матер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5746680" y="4352760"/>
            <a:ext cx="2755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C18B-DCD9-4847-B707-817C40DB13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2000" y="122040"/>
            <a:ext cx="865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Захтеви за имплантатне материјал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33440" y="1744560"/>
            <a:ext cx="82296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504720" y="1841400"/>
            <a:ext cx="81457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теријали за имплантате морају поседовати следеће особ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Биокомпатибил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Биоатхези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Повољне физичке и механичке особ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Функционалност и практич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Захтеви за имплантатне материјал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D0D3-FA40-4DF0-B331-A84773BD69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457200" y="1442880"/>
            <a:ext cx="81691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Биокомпати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ријали који се уграђују у људски организам  називају се биоматеријали и они су биокомпатибилни, тј. не изазивају штетне локалне или системске реакције организма, а биолошко окружење у које су уграђени не узрокује промене у материја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ријали не смеју испољи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токсично, алергогено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 канцерог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 радиоактивно деј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ериимплантатно ткиво не с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естабилизовати имплант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короз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раствар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биодеградациј</a:t>
            </a:r>
            <a:r>
              <a:rPr b="0" lang="sr-Latn-RS" sz="2000" spc="-1" strike="noStrike">
                <a:solidFill>
                  <a:srgbClr val="ff0000"/>
                </a:solidFill>
                <a:latin typeface="Arial"/>
                <a:ea typeface="Arial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https://encrypted-tbn2.gstatic.com/images?q=tbn:ANd9GcQ-3OvyUiBZq44IJRvDMn8-LvoO-GSUcHumSfgnLFA1Yk723hjw"/>
          <p:cNvPicPr/>
          <p:nvPr/>
        </p:nvPicPr>
        <p:blipFill>
          <a:blip r:embed="rId1"/>
          <a:stretch/>
        </p:blipFill>
        <p:spPr>
          <a:xfrm>
            <a:off x="4473720" y="4471920"/>
            <a:ext cx="41526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Захтеви за имплантатне материјал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6512-CB5E-494F-8BB2-2FB99DBAFA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80960" y="1936800"/>
            <a:ext cx="819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457200" y="1563840"/>
            <a:ext cx="8169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псолутна биокомпатибилност не посто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ви алопластични материјале у имплантолог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класификовани су по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борн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Биотолерантне материјал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( кост их толерише али на њих реагује као на страна тела – инкапсулира их слојем здравог везивног ткив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Биоинертне материјал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( кост их не препознаје као страно тело, долази до стварања калуса остварујући интиман контакт али без хемијске везе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Биоа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д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хезивне материјал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( долази до хемијске везе на молеруларном нивоу која поседује значајну отпорност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0920" y="-36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Захтеви за имплантатне материјал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E9F6-090C-4BCA-985E-14161C7F96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444600" y="1757520"/>
            <a:ext cx="8170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Биореактивне материјал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( не само да успостављају хемијску везу већ обављају и размену јона са околним коштаним ткивом. Биореактивни материјали индукују директно формирање коштаног ткива на површини имплантата у оба правц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градња имплантата уместо осеоинтегр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же резултирати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зивном инкапсулациј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ез обзира на тип материј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ип материјала није најважнији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еоинтеграције већ је то биомехан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табилност за време фазе зараст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https://encrypted-tbn3.gstatic.com/images?q=tbn:ANd9GcRIec3NgWljBQ5QmIRLTJ_rNixo-Jee9KdGoOGXGjAEmgQKgCMm"/>
          <p:cNvPicPr/>
          <p:nvPr/>
        </p:nvPicPr>
        <p:blipFill>
          <a:blip r:embed="rId1"/>
          <a:srcRect l="12259" t="1400" r="6922" b="3899"/>
          <a:stretch/>
        </p:blipFill>
        <p:spPr>
          <a:xfrm>
            <a:off x="5975280" y="3789360"/>
            <a:ext cx="3168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1440" y="122040"/>
            <a:ext cx="814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Захтеви за имплантатне материјал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8602-0831-48BC-8F1B-7E2E53644A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57200" y="1455840"/>
            <a:ext cx="8205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Биоадхез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је способност имплантатног материјала да околним ткивима  и ткивним течностима омогући добро квашење, лако и интимно приањање уз његову површ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ређују је површински напон кости и ткивне течности ( 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адхезив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 површинска енергија материјала ( 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  <a:ea typeface="Arial"/>
              </a:rPr>
              <a:t>адхерех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C:\Users\Zoran\Downloads\implantologija\images (21).jpg"/>
          <p:cNvPicPr/>
          <p:nvPr/>
        </p:nvPicPr>
        <p:blipFill>
          <a:blip r:embed="rId1"/>
          <a:stretch/>
        </p:blipFill>
        <p:spPr>
          <a:xfrm>
            <a:off x="2859120" y="3863880"/>
            <a:ext cx="29052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Захтеви за имплантатне материјал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4F74-1401-472E-AD13-0B08D51F9F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457200" y="1671480"/>
            <a:ext cx="81583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Физичка и механичка сво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дразумевају одговарајућу чврстоћу која гарантује добру дистрибуцију сила на околне коштане структуре, малу термичку и електричну спроводљив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јбитније својство материјала ове групе захтева је еластичност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( приближна еластичности кост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https://encrypted-tbn3.gstatic.com/images?q=tbn:ANd9GcSVNTMrLAtUS9iNcQZgbmzHTe5YWyiWK2gRoYuFu2XeLzyjLEd5Lg"/>
          <p:cNvPicPr/>
          <p:nvPr/>
        </p:nvPicPr>
        <p:blipFill>
          <a:blip r:embed="rId1"/>
          <a:srcRect l="9976" t="-378" r="5683" b="0"/>
          <a:stretch/>
        </p:blipFill>
        <p:spPr>
          <a:xfrm>
            <a:off x="866880" y="4307040"/>
            <a:ext cx="2727360" cy="208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https://encrypted-tbn0.gstatic.com/images?q=tbn:ANd9GcTgsuKMtXcr2gLyvkaobXyaR_maGxwfmUrf1ymQSCGkdBoTiqq_9g"/>
          <p:cNvPicPr/>
          <p:nvPr/>
        </p:nvPicPr>
        <p:blipFill>
          <a:blip r:embed="rId2"/>
          <a:stretch/>
        </p:blipFill>
        <p:spPr>
          <a:xfrm>
            <a:off x="4595760" y="4451400"/>
            <a:ext cx="395136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мплантоло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9C9C-ED2D-4318-8F22-BC0DDCBC5D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Захтеви за имплантатне материјал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480960" y="1660680"/>
            <a:ext cx="81694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Функционалност и практ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 материјала за имплантате очекује се висок квалитет, једноставно руковање, могућност лаког обликовања, лака стерилизација, рентген контраст и економска прихватљив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http://www.implantdirect.com/eu/ch/newsletter/images/compare_sxplant_straumann_packaging.jpg"/>
          <p:cNvPicPr/>
          <p:nvPr/>
        </p:nvPicPr>
        <p:blipFill>
          <a:blip r:embed="rId1"/>
          <a:srcRect l="2429" t="14296" r="72" b="3677"/>
          <a:stretch/>
        </p:blipFill>
        <p:spPr>
          <a:xfrm>
            <a:off x="4556160" y="3436920"/>
            <a:ext cx="3343320" cy="298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480960" y="3429000"/>
            <a:ext cx="3892680" cy="299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Stefan</cp:lastModifiedBy>
  <dcterms:modified xsi:type="dcterms:W3CDTF">2020-02-14T07:44:14Z</dcterms:modified>
  <cp:revision>1935</cp:revision>
  <dc:subject/>
  <dc:title>NAZIV PREDAVANJA</dc:title>
</cp:coreProperties>
</file>